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7950-2551-4504-82F2-EB768184B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741-6D8C-4020-954E-4928EBBE28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AEF-7D94-46FB-82FA-CBB29AAA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E86-C89B-4198-A5E9-37C605C8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D05-176E-4BC8-BBD9-D3FE05C6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D79-A916-4013-9E35-A8DC0326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BC1-6E56-4F18-9392-9177B679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ED29-4258-4778-84C6-480FFF3F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5E4A-0C20-47A8-A6CA-B2BB9512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355-47FB-44B6-85C1-C27B5881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FAF4-3FA8-45FB-B86F-C39860D2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FF47-D5FE-40FD-BDA5-6CC8F5E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8FE9-A01C-430B-9B1B-94C650F3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56A-39EA-4AD0-8359-055639F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932F-2734-408F-9D9B-D15EEBE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40A0-150F-4A2D-A739-3DE2AC2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0BC8-5259-4331-AB4D-F081A530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89FE-91AA-49D6-AB6F-DBCCE606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6658-3E59-44ED-93EA-87C5C18B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912D4-AB55-4F09-B9A7-25BDD714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9C9A-7615-4FD6-AF74-C9F5B432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79B3-FF10-4B74-AE09-0CE274CC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12CB-3BAC-49DC-B8D8-9B4C4731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B4E7-BF3B-446F-B7AC-D352EBB2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1DB-9FF7-4EAF-97E5-82964AF3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40CF-9DED-42C7-AFD5-9FE5DD10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4833-6667-430A-9B18-52DC537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B58D-C6E7-46CB-A796-CB210A6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3CEB-191F-4CA9-ADFC-DDCCAB6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095B-C6ED-4A3B-8C7F-86BD98A6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B465-3769-47AC-A27D-3E0E1C07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1134-F0AD-4718-9362-9435AA4B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0FA4-90FE-48F1-9633-F6B41363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120F-05D8-45BD-B7BC-8167F1E6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7EC1-A197-4DAB-9967-CC0D1FBF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219-4647-4AAF-95BA-1A7FB11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2652-3F8E-4DB3-97B0-4B133CE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F877-9038-4D33-9FC3-AC1A4A8B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1AC1-9630-4080-A3B7-B18799FA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FC37-638F-4335-B1E0-0CC5371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ED4A-7BAA-45F0-80A0-AD705CE9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9978-8033-49D6-B2B2-913A149B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3B406-190B-43A8-86DD-4B33B22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DE0A-ECAF-45FB-8A56-7C701991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BCDB-4672-495D-B4D8-99F0551D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50CD-6D0C-4325-8625-A17ABFA3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56D-11BC-4B58-B52A-E7A9DD8E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0842-9B6A-4C45-B2EB-3ADCF058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E18A-FD70-4DD4-943B-6AFB07DD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B82BC-C578-4E56-AAED-6263B2F0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464EE-7791-41FA-85C0-67725275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E664A-64FA-4B19-99D2-16CC5317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B3CFD-6EE2-40ED-A518-D50A21AC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EE2BB-098F-46D4-889A-31816FD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8070-3C6A-4B05-8AD7-EE566B7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95B3-A86A-41F5-A17C-0EB41382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2CFB2-B52D-4A1C-BBC0-52CC2D3E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3EB-56D0-4E0A-B022-0CDBAB9B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7254-077A-44E6-ACA3-1A6C1AB4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7BD-EE17-450E-9E7B-A55A2808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F6C-4ED6-4098-A511-E614CC01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6FC-7ED4-4C58-87AE-89454C75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de cantos arredondado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4D7-ACD7-4678-B437-30048B2694B8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tângulo de cantos arredondado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310D-C3CE-4738-A7FB-D0292372B640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tângulo de cantos arredondado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etângulo de cantos arredondado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tângulo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32BD-7BEC-452F-BDE0-205565829F47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de cantos arredondado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23F0-909B-4073-8346-58DC0322F03C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de cantos arredondado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tângulo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A633-26F1-4882-B5F9-0C9D772E198D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lec.org/" TargetMode="External"/><Relationship Id="rId2" Type="http://schemas.openxmlformats.org/officeDocument/2006/relationships/hyperlink" Target="http://meusite.mackenzie.com.br/leitepr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ffffff"/>
                </a:solidFill>
                <a:latin typeface="Franklin Gothic Book"/>
              </a:rPr>
              <a:t>LOGÍSTICA INTEGRADA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Franklin Gothic Book"/>
              </a:rPr>
              <a:t>Critérios de avaliação &amp; seminário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6" name="Picture 10" descr="http://4.bp.blogspot.com/_eRzdKXgIsl0/S__fAds5iDI/AAAAAAAAAAM/24jLSW8F8KE/S1600-R/Logo+UNIFAE.png"/>
          <p:cNvPicPr/>
          <p:nvPr/>
        </p:nvPicPr>
        <p:blipFill>
          <a:blip r:embed="rId1"/>
          <a:stretch/>
        </p:blipFill>
        <p:spPr>
          <a:xfrm>
            <a:off x="6027840" y="404640"/>
            <a:ext cx="2752560" cy="75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949320" y="49068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Comic Sans MS"/>
              </a:rPr>
              <a:t>Prof. Luciel Henrique de Oliv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Tahoma"/>
              </a:rPr>
              <a:t>luciel@fae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tângulo 5"/>
          <p:cNvSpPr/>
          <p:nvPr/>
        </p:nvSpPr>
        <p:spPr>
          <a:xfrm>
            <a:off x="1187280" y="4437000"/>
            <a:ext cx="66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DA DISCIPLINA DISPONIVEL NO S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logisticaintegradaunifae.wikispaces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Franklin Gothic Book"/>
              </a:rPr>
              <a:t>Critérios de avaliação dos seminário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Critério C: ( Peso 20%)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GRUP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: Demonstração de trabalho em grupo através de boa coordenação  e coerência das diferentes apresentações individuais, da demonstração de que o grupo trabalhou com participação de todos e o uso correto do temp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Critério D: (Peso 20%)-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PESQUISA BIBLIOGRÁFICA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    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Uso pertinente da bibliografia básica do curso e bibliografia adicional demonstrada, contribuições questionários e  entrevistas, contatos com executivos, materiais de apoio, catálogos, vídeos, etc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Critério E: (Peso 10%)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APRESENTAÇÃ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: Forma, criatividade, meios expositivos,  cuidado no preparo. Utilizar-se de data show, transparências, vídeos, palestras,  etc. entre outros meios, que tornem a apresentação mais inteligível, evitando a simples leitura de laudas. É o momento em que os alunos demonstram o domínio de sua parte e do trabalho como um todo.</a:t>
            </a:r>
            <a:r>
              <a:rPr b="0" lang="pt-BR" sz="9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Franklin Gothic Book"/>
              </a:rPr>
              <a:t>Algumas dica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00000" y="148392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Mostrar o caso escolhido para aprovação prévia do professo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Fazer telas com tópicos principais ao invés de textos longos evidenciam um certo domínio do assunto evitando exposição “decorada” ou “lida”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Escritas de última hora na lousa podem demonstrar falta de preparo na apresentaçã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Leitura de laudas intui baixo nível de compreensão do assunto expost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Preparação dos equipamentos da apresentação com antecedência denota cuidado com o trabalh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SUPPLY CHAIN MANAGEMENT: Christopher, Martin -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Logistica e Gerenciamento da Cadeia de Suprimentos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Edit. Pioneira, 1999 ; Christopher, Martin,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Marketing e Logística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, Futura , 1999 ; Bowersox, Donald J. –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Logistica Empresarial –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Edit. Atlas, 2001; Fleury, Paulo F. et al- Logística Empresarial. Edit. Atlas , 2002; Chopra, Sunil e Meindl, Peter-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Gerenciamento da Cadeia de Suprimentos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. Prentice Hall, 2003. Bertaglia, Paulo R. –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Logística e gerenciamento da cadeia de abastecimento., edit Saraiva, 2003. 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Taylor, Daid A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Logística na Cadeia de suprimentos – uma perspectiva gerencial-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Pearson , 2004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PORTOS MARÍTIMOS : Revista Tecnologistica  - Artenova Editora e Comunicações; Revista Transporte; Internet PORTOS, Coleção Aduaneiras, etc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COMPRAS – SUPRIMENTOS:  Arnold, J.R.Tony.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Administração de Materiais.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São Paulo: Edit. Atlas, 1999; Dias, Marco Antonio P.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Administração de Materiais. 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São Paulo: Edit. Atlas; 1997; Viana, João J.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Administração de Materiais- Um Enfoque Prático.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São Paulo: Edit. Atlas, 2000 ; Baily, Peter et al.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Compras.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São Paulo: Edit. Atlas,2000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50560" y="1447920"/>
            <a:ext cx="8435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TRANSPORTE: Fleury, Paulo F. et al-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Logística Empresarial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. Edit. Atlas , 2002: Revista Tecnologistica  - Artenova Editora e Comunicações; Ballou, Ronald H –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Gerenciamento da Cadeia de Suprimentos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– Edit. Bookman,2001; Bowersox, Donald J..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Logística Empresarial.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São Paulo: Edit. Atlas, 2001; Caixeta , José Vicente et al –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Transportes e logística em sistemas agroindustriais.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Atlas, 2001; Caixeta , José Vicente et al –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Gestão logística de transportes de carga.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Atlas, 2001.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EMBALAGEM LOGÍSTICA: Ballou, Ronald H –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Gerenciamento da Cadeia de Suprimentos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– Edit. Bookman,2001; Bowersox, Donald J..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Logística Empresarial.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São Paulo: Edit. Atlas, 2001;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Manuais IMAM-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Instituto de movimentação e armazenamento de materiais.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GESTÃO DE ESTOQUES:  Arnold, J.R.Tony.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Administração de Materiais.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 São Paulo: Edit. Atlas, 1999; Dias, Marco Antonio P.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Administração de Materiais. 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São Paulo: Edit. Atlas; 1997; Davis, Mark M.; Aquilano, Nicholas J.; Chase, Richards B..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Fundamentos da Administração da Produção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. Porto Alegre: Edit. Bookman, 2001; Francischini, Paulino G. e Gurgel, Floriano do Amaral. Administração de Materiais e do Patrimônio. São Paulo, edit. Pioneira, 2002; Gaither, Norman e Frazier,Greg.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Administração da Produção e Operações. 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São Paulo: Edit. Pioneira, 2001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38840" indent="-4388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TERCEIRIZAÇÃO LOGÍSTICA: Fleury, Paulo F. et al- Logística Empresarial. Edit. Atlas , 2002: Revista Tecnologistica  - Artenova Editora e Comunicações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38840" indent="-4388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ARMAZENAGEM:  Fleury, Paulo F. et al- Logística Empresarial. Edit. Atlas , 2002: Revista Tecnologistica  - Artenova Editora e Comunicações; Ballou, Ronald H –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Gerenciamento da Cadeia de Suprimentos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 – Edit. Bookman,2001; Bowersox, Donald J..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Logística Empresarial.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 São Paulo: Edit. Atlas, 2001; manuais IMAM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68000" y="1413000"/>
            <a:ext cx="85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CÓDIGO DE BARRAS e EDI : EAN- Brasil , Associação Brasileira de Automação ; Revista Tecnologistica  - Artenova Editora e Comunicações; Francischini, Paulino G. e Gurgel, Floriano do Amaral. Administração de Materiais e do Patrimônio. São Paulo, edit. Pioneira, 2002;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5800" indent="-415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LOGÍSTICA REVERSA : Leite, Paulo Roberto – Logística Reversa – Meio Ambiente e Competitividade. São Paulo, 2003. Edit.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entice Hall.; Rogers, Dale S. e Tibben-Lembke, Ronald S. –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Going Backwards:Reverse Logistics Trends and Pratices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Disponível na Internet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www.rlec.or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; Council of Logistics Management –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Reuse and Recycling –Reverse Logistics Opportunities-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Edit CLM, 1993;  Revista Tecnologistica  - Artenova Editora e Comunicações, </a:t>
            </a:r>
            <a:r>
              <a:rPr b="0" lang="en-US" sz="20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meusite.mackenzie.com.br/leitep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5800" indent="-415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LOGÍSTICA INTERNACIONAL: Dornier, Philippe- Pierre at al –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Logística e Operações Globais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 – Textos e casos . Edit. Atlas 2000; Coleções Aduaneiras; Revistas Tecnologistica, Revistas Transport – Turetta Editora e propagandaRevista Distribuição – L&amp;M Comunicações; Revistas especializadas na biblioteca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68000" y="1413000"/>
            <a:ext cx="85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REVISTAS  TÉCNICAS E SITES DE LOGÍST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Tecnologístic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LOGÍSTICA – IMA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MundoLogístic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Logística Modern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Portal Logweb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Portal NewsComex - Logística e Comércio Exteri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Guia Log - Publicações Técnicas de Logístic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Portuária - Economia e Negócio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56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Links que podem ajudar..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Guia de Logística e Transporte - www.guialog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ASLOG - www.aslog.org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Ibralog - www.ibralog.org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América Latina Logística - www.all-logistica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ABML - www.abml.org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MRS LOGÍSTICA S.A. - www.mrs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Guia de Logística e Transporte  - www.guiadelogistica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Instituto de Logística e Suply Chain  - www.ilos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Portal NTC&amp;Logística - www.ntcelogistica.org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www.logisticainternacional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Instituto IMAM - www.imam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http://www.expologistica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http://www.revistamundologistica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www.tecnologistica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68360" y="3200040"/>
            <a:ext cx="82072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  <a:ea typeface="Arial"/>
              </a:rPr>
              <a:t>Trabalhos individuais:  30%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Arial"/>
                <a:ea typeface="Arial"/>
              </a:rPr>
              <a:t>Trabalho 1 (27/08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Arial"/>
                <a:ea typeface="Arial"/>
              </a:rPr>
              <a:t>Trabalho 2 (03/09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Arial"/>
                <a:ea typeface="Arial"/>
              </a:rPr>
              <a:t>Trabalho 3 (17/09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Arial"/>
                <a:ea typeface="Arial"/>
              </a:rPr>
              <a:t>Trabalho 4 (02/10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  <a:ea typeface="Arial"/>
              </a:rPr>
              <a:t>Seminários (grupos) – </a:t>
            </a:r>
            <a:r>
              <a:rPr b="1" lang="pt-BR" sz="1400" spc="-1" strike="noStrike">
                <a:solidFill>
                  <a:srgbClr val="c00000"/>
                </a:solidFill>
                <a:latin typeface="Arial"/>
                <a:ea typeface="Arial"/>
              </a:rPr>
              <a:t>Sorteio de apresentações (dias 09, 16, 23 e 30 de outubro)  - 30%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  <a:ea typeface="Arial"/>
              </a:rPr>
              <a:t>Prova Final (13/11) - 40%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ffffff"/>
                </a:solidFill>
                <a:latin typeface="Franklin Gothic Book"/>
              </a:rPr>
              <a:t>LOGÍSTICA INTEGRADA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Franklin Gothic Book"/>
              </a:rPr>
              <a:t>Critérios de avaliação &amp; seminário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1" name="Picture 10" descr="http://4.bp.blogspot.com/_eRzdKXgIsl0/S__fAds5iDI/AAAAAAAAAAM/24jLSW8F8KE/S1600-R/Logo+UNIFAE.png"/>
          <p:cNvPicPr/>
          <p:nvPr/>
        </p:nvPicPr>
        <p:blipFill>
          <a:blip r:embed="rId1"/>
          <a:stretch/>
        </p:blipFill>
        <p:spPr>
          <a:xfrm>
            <a:off x="6027840" y="404640"/>
            <a:ext cx="2752560" cy="756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49320" y="49068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Comic Sans MS"/>
              </a:rPr>
              <a:t>Prof. Luciel Henrique de Oliv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Tahoma"/>
              </a:rPr>
              <a:t>luciel@fae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Franklin Gothic Book"/>
              </a:rPr>
              <a:t>TEMAS DE SEMINÁRIOS DE </a:t>
            </a: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Franklin Gothic Book"/>
              </a:rPr>
              <a:t>LOGÍSTICA INTEGRADA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6880" y="2184480"/>
            <a:ext cx="80312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Perpetua"/>
              </a:rPr>
              <a:t>Grupos de até 4 pessoa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Perpetua"/>
              </a:rPr>
              <a:t>Propósito dos seminário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Perpetua"/>
              </a:rPr>
              <a:t>IDENTIFICAR, PREPARAR E APRESENTAR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Perpetua"/>
              </a:rPr>
              <a:t>CASOS REAIS</a:t>
            </a:r>
            <a:r>
              <a:rPr b="1" lang="pt-BR" sz="2800" spc="-1" strike="noStrike">
                <a:solidFill>
                  <a:srgbClr val="000000"/>
                </a:solidFill>
                <a:latin typeface="Perpetua"/>
              </a:rPr>
              <a:t> EM QUE POSSAM SER IDENTIFICADOS OS CONCEITOS PRINCIPAIS RELACIONADOS A SEGUIR, PROCURANDO RESPONDER, TEÓRICA E PRATICAMENTE ATRAVÉS DO CASO, A QUESTÃO FOCAL DO TEM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0000"/>
                </a:solidFill>
                <a:latin typeface="Franklin Gothic Book"/>
              </a:rPr>
              <a:t>Temas de seminários de </a:t>
            </a:r>
            <a:br>
              <a:rPr sz="3400"/>
            </a:br>
            <a:r>
              <a:rPr b="1" lang="pt-BR" sz="3400" spc="-1" strike="noStrike">
                <a:solidFill>
                  <a:srgbClr val="ff0000"/>
                </a:solidFill>
                <a:latin typeface="Franklin Gothic Book"/>
              </a:rPr>
              <a:t>Logística Integrada </a:t>
            </a:r>
            <a:r>
              <a:rPr b="0" lang="pt-BR" sz="1800" spc="-1" strike="noStrike">
                <a:solidFill>
                  <a:srgbClr val="ff0000"/>
                </a:solidFill>
                <a:latin typeface="Franklin Gothic Book"/>
              </a:rPr>
              <a:t>(escolha do grupo)</a:t>
            </a:r>
            <a:endParaRPr b="0" lang="en-US" sz="1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920" y="1341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SUPPLY CHAIN MANAGEMENT: Como os diversos aspectos de parceria empresarial podem afetar os resultados d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SUPPLY CHAIN MANAGEMENT: Aplicação dos conceitos de cadeia de suprimentos em uma cadeia de suprimentos agropecuária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PORTOS MARÍTIMOS: Aspectos logísticos que condicionam a sua produtividade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COMPRAS: Qual a contribuição da área de suprimentos (compras) nos resultados d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TRANSPORTE FERROVIÁRIO: Potencialidade do modal nas operações empresariais no Brasil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TERCEIRIZAÇÃO LOGÍSTICA: Resultados alcançados na empresa com a terceirização logística?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INFORMATIZAÇÃO LOGÍSTICA:  Como a informática  e / ou automação podem auxiliar empresas em suas atividades logísticas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50560" y="1663560"/>
            <a:ext cx="87138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CODIGO DE BARRAS: Qual o impacto da implementação de código de barras, EDI,  e / ou etiqueta inteligente nas operações d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EMBALAGEM LOGÍSTICA: Influência da embalagem logística nas operações de transportes e armazenagem da empresa?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LOGISTICA REVERSA: Quais os objetivos estratégicos na implementação de um programa de logística reversa em um setor ou empresa?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TRANSPORTES AÉREO: O transporte aéreo nas operações empresariais no Brasil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DISTRIBUIÇÃO FISICA: O impacto da distribuição física dos produtos no resultado empresarial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NÍVEL DE SERVIÇO LOGÍSTICO: A avaliação do desempenho da missão logística n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LOGÍSTICA INTERNACIONAL: qual o impacto das peculiaridades logísticas nas operações internacionais d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0000"/>
                </a:solidFill>
                <a:latin typeface="Franklin Gothic Book"/>
              </a:rPr>
              <a:t>Temas de seminários de </a:t>
            </a:r>
            <a:br>
              <a:rPr sz="3400"/>
            </a:br>
            <a:r>
              <a:rPr b="1" lang="pt-BR" sz="3400" spc="-1" strike="noStrike">
                <a:solidFill>
                  <a:srgbClr val="ff0000"/>
                </a:solidFill>
                <a:latin typeface="Franklin Gothic Book"/>
              </a:rPr>
              <a:t>Logística Integrada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Franklin Gothic Book"/>
              </a:rPr>
              <a:t>Seminários de grupos de aluno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95280" y="1125360"/>
            <a:ext cx="8569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erpetua"/>
              </a:rPr>
              <a:t>Os temas (problemas de pesquisa) e datas de apresentação serão sorteados em classe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erpetua"/>
              </a:rPr>
              <a:t>Os grupos de até 4 alunos devem se apresentar na data sorteada pelo professor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erpetua"/>
              </a:rPr>
              <a:t>Cada grupo terá um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Perpetua"/>
              </a:rPr>
              <a:t>tempo máximo de 30 minutos </a:t>
            </a:r>
            <a:r>
              <a:rPr b="0" lang="pt-BR" sz="1600" spc="-1" strike="noStrike">
                <a:solidFill>
                  <a:srgbClr val="000000"/>
                </a:solidFill>
                <a:latin typeface="Perpetua"/>
              </a:rPr>
              <a:t>para apresentar, seguido da discussão com a turma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 u="sng">
                <a:solidFill>
                  <a:srgbClr val="000000"/>
                </a:solidFill>
                <a:uFillTx/>
                <a:latin typeface="Perpetua"/>
              </a:rPr>
              <a:t>DINÂMICA: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rupo inicia o trabalho pelo estudo do tema central usando a bibliografia do curso e bibliografia adicional que enriqueça o trabalho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dentifica o caso que será analisado e apresentado em classe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 buscar dados atualizados para ilustrar o caso e detalhar: problemas, oportunidades, desafios, soluções..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dos os alunos devem apresentar seminário.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valiação será feita pela apresentação do grupo, considerando o relatório entregue e os slides apresentado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trega de um </a:t>
            </a:r>
            <a:r>
              <a:rPr b="0" lang="pt-BR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elatório impresso</a:t>
            </a:r>
            <a:r>
              <a:rPr b="0" lang="pt-BR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es da apresentação em classe (máximo 10 páginas), detalhando as fontes de pesquisa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a seguinte á apresentação, enviar por e-mail o relatório e os slides, com as devidas correções sugeridas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f.luciel@gmail.com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Franklin Gothic Book"/>
              </a:rPr>
              <a:t>Avaliação do Seminário</a:t>
            </a:r>
            <a:br>
              <a:rPr sz="32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9806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la apresentação do seminário pelo grupo em sala de aula de acordo com os critérios especificados e pelo conteúdo do RELATÓRIO entregu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la originalidade e grau de detalhamento do caso apresenta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la capacidade de relacionar o caso aos conceitos teóric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Não é necessária apresentação de outro material escrito salvo por interesse do professor que solicitará expressamente ao grupo após a apresentação em sala de aul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Franklin Gothic Book"/>
              </a:rPr>
              <a:t>Avaliação do Seminário</a:t>
            </a:r>
            <a:br>
              <a:rPr sz="32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5280" y="9806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Conteúdo obrigatório da apresentaçã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seminário deve conter e o grupo deve explicar um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QUADRO RELACIONAL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mostrando a aplicação dos conceitos, definições, técnicas, sistemas operacionais, práticas e processos logísticos identificados ou não encontrados no caso estudado tendo como referência a bibliografia consultad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Deve constar - a fonte de todas as pesquias o nome do autor, título da obra e editora, página em que se encontra o conceito, ou site (URL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Último slides: elaborar 4 questões para discussão em sala, explorando o relacionamento do caso com os conceitos teóricos estudad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Critérios de avaliação dos seminários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560" y="1557000"/>
            <a:ext cx="867564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Critério A: ( Peso de 30%)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 –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ANÁLISE DO CASO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: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Explicações, comentários e críticas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 ao caso estudado relacionando os principais conceitos identificados no caso com os encontrados na literatura pesquisada. O grupo deve demonstrar o nível de compreensão e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foco em logística  integrada 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na análise dos conceitos logísticos no caso estudado.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O grupo deve evitar a simples descrição do caso sem a devida “ligação” com os conceitos logísticos ou a descrição pura e simples da teoria estudad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Critério B: (Peso 20%)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SER COMPREENSÍVEL- Lógica e seqüência no desenvolviment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do seminário. Exposição gradativa e dentro de uma ordem compreensível. Breve introdução de contextualização do caso e do setor estudado; etapas do seminário compatíveis com o tempo e com o número de alunos do grupo e um fechamento com comentários finais do grupo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1:19:19Z</dcterms:created>
  <dc:creator>Paulo Roberto Leite</dc:creator>
  <dc:description/>
  <dc:language>en-US</dc:language>
  <cp:lastModifiedBy>ssssss</cp:lastModifiedBy>
  <dcterms:modified xsi:type="dcterms:W3CDTF">2014-08-21T22:27:35Z</dcterms:modified>
  <cp:revision>17</cp:revision>
  <dc:subject/>
  <dc:title>Temas de seminários de  logística empresarial</dc:title>
</cp:coreProperties>
</file>